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7AD-6AE6-4294-A4DE-0FFFE575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C8F-585C-43D0-B827-9035C66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40C-1D2A-4531-BE95-F2818CDC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F3E-0298-4301-958A-54B1127E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B27-6E1A-4E33-8184-B90CE230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D95-8553-4AAB-8251-DE69D17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413-7A21-4B20-8810-06A8FBE9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5F6-D545-4D9A-8E31-63AC3A1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D5B-281B-4947-AD20-BB94147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922-235A-4677-9E0C-67EAB6E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FD1-9A9C-4471-AF03-4165DFC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3F6-3866-4BC0-BF30-5E56C8B6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E3FC-60D5-4086-B7E3-6E8B847FA7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mensionierung vo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 und Konstruktio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bali 17.05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58972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e Bilder und Formeln sind Auszüge aus dem Roloff/Matek Maschinenele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2133720"/>
            <a:ext cx="88916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35164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8713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ftverhältnisse bei statischer oder dynamischer Quer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84644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488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74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teilen der Schrauben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im Montagezu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Schra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Bau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stat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dynam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luss der Krafteinleitung in die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verhältnisse statischer und dynamischer Querkräf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iehen der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agevorspannkraft, Anziehfaktor und –verfah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altung der maximal zulässigen Schraubenk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erhaltbarkeit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chlagspannun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dynamische Sicherhei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8428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bereits erläutert, wird die Schraube durch die Zusatz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chwingend belas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adurch gegebene Ausschlag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hrt zu einer Ausschlagspannu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äfte am Gewi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59280" y="6021360"/>
            <a:ext cx="16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6021360"/>
            <a:ext cx="165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ndemo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63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437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ür den Normalfall (unbehandelte, geölte Schrauben) lässt sich für Befestigungsschrauben das Anziehdrehmoment hinreichend genau ermitteln durch die einfache Bezieh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48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wichtigen Verschraubungen ist ein kontrolliertes Anziehen (Anziehgerät s. Bild 8-21) unbedingt erforderlich, um eine verlangte Vorspannkraft möglichst genau zu erreich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agewerkze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532764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1557360"/>
            <a:ext cx="72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Maß für die Streuung der Vorspannkraft ist der Anziehfaktor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ell ermittelte werte können der TB 8-11 ent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–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haltung der maximal zulässigen Schrauben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wendungsbeispi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90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3500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behä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pp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34136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0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M TB 8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rechnung von Befestigungsschrau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82000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2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12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Längenänderu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489800" cy="389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0364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628640"/>
            <a:ext cx="5329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chgiebigkeit der Schrau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ch Addition der Nachgiebigkeiten der einzelnen Elemente erhält man die Nachgiebigkeit der Schra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5661000"/>
            <a:ext cx="5580000" cy="119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50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4869000"/>
            <a:ext cx="8101080" cy="198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244000" y="5157720"/>
            <a:ext cx="576000" cy="37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867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1:12:09Z</dcterms:created>
  <dc:creator>,</dc:creator>
  <dc:description/>
  <dc:language>en-US</dc:language>
  <cp:lastModifiedBy>,</cp:lastModifiedBy>
  <dcterms:modified xsi:type="dcterms:W3CDTF">2008-05-16T22:14:21Z</dcterms:modified>
  <cp:revision>15</cp:revision>
  <dc:subject/>
  <dc:title>Dimensionierung von Schraubenverbindungen</dc:title>
</cp:coreProperties>
</file>